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  <p:sldId id="368" r:id="rId122"/>
    <p:sldId id="369" r:id="rId123"/>
    <p:sldId id="370" r:id="rId124"/>
    <p:sldId id="371" r:id="rId125"/>
    <p:sldId id="372" r:id="rId126"/>
    <p:sldId id="373" r:id="rId127"/>
    <p:sldId id="374" r:id="rId128"/>
    <p:sldId id="375" r:id="rId129"/>
    <p:sldId id="376" r:id="rId130"/>
    <p:sldId id="377" r:id="rId131"/>
    <p:sldId id="378" r:id="rId132"/>
    <p:sldId id="379" r:id="rId133"/>
    <p:sldId id="380" r:id="rId134"/>
    <p:sldId id="381" r:id="rId135"/>
    <p:sldId id="382" r:id="rId136"/>
    <p:sldId id="383" r:id="rId137"/>
    <p:sldId id="384" r:id="rId138"/>
    <p:sldId id="385" r:id="rId139"/>
    <p:sldId id="386" r:id="rId140"/>
    <p:sldId id="387" r:id="rId141"/>
    <p:sldId id="388" r:id="rId142"/>
    <p:sldId id="389" r:id="rId143"/>
    <p:sldId id="390" r:id="rId144"/>
    <p:sldId id="391" r:id="rId145"/>
    <p:sldId id="392" r:id="rId146"/>
    <p:sldId id="393" r:id="rId147"/>
    <p:sldId id="394" r:id="rId148"/>
    <p:sldId id="395" r:id="rId149"/>
    <p:sldId id="396" r:id="rId150"/>
    <p:sldId id="397" r:id="rId151"/>
    <p:sldId id="398" r:id="rId152"/>
    <p:sldId id="399" r:id="rId1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slide" Target="slides/slide113.xml"/><Relationship Id="rId123" Type="http://schemas.openxmlformats.org/officeDocument/2006/relationships/slide" Target="slides/slide114.xml"/><Relationship Id="rId124" Type="http://schemas.openxmlformats.org/officeDocument/2006/relationships/slide" Target="slides/slide115.xml"/><Relationship Id="rId125" Type="http://schemas.openxmlformats.org/officeDocument/2006/relationships/slide" Target="slides/slide116.xml"/><Relationship Id="rId126" Type="http://schemas.openxmlformats.org/officeDocument/2006/relationships/slide" Target="slides/slide117.xml"/><Relationship Id="rId127" Type="http://schemas.openxmlformats.org/officeDocument/2006/relationships/slide" Target="slides/slide118.xml"/><Relationship Id="rId128" Type="http://schemas.openxmlformats.org/officeDocument/2006/relationships/slide" Target="slides/slide119.xml"/><Relationship Id="rId129" Type="http://schemas.openxmlformats.org/officeDocument/2006/relationships/slide" Target="slides/slide120.xml"/><Relationship Id="rId130" Type="http://schemas.openxmlformats.org/officeDocument/2006/relationships/slide" Target="slides/slide121.xml"/><Relationship Id="rId131" Type="http://schemas.openxmlformats.org/officeDocument/2006/relationships/slide" Target="slides/slide122.xml"/><Relationship Id="rId132" Type="http://schemas.openxmlformats.org/officeDocument/2006/relationships/slide" Target="slides/slide123.xml"/><Relationship Id="rId133" Type="http://schemas.openxmlformats.org/officeDocument/2006/relationships/slide" Target="slides/slide124.xml"/><Relationship Id="rId134" Type="http://schemas.openxmlformats.org/officeDocument/2006/relationships/slide" Target="slides/slide125.xml"/><Relationship Id="rId135" Type="http://schemas.openxmlformats.org/officeDocument/2006/relationships/slide" Target="slides/slide126.xml"/><Relationship Id="rId136" Type="http://schemas.openxmlformats.org/officeDocument/2006/relationships/slide" Target="slides/slide127.xml"/><Relationship Id="rId137" Type="http://schemas.openxmlformats.org/officeDocument/2006/relationships/slide" Target="slides/slide128.xml"/><Relationship Id="rId138" Type="http://schemas.openxmlformats.org/officeDocument/2006/relationships/slide" Target="slides/slide129.xml"/><Relationship Id="rId139" Type="http://schemas.openxmlformats.org/officeDocument/2006/relationships/slide" Target="slides/slide130.xml"/><Relationship Id="rId140" Type="http://schemas.openxmlformats.org/officeDocument/2006/relationships/slide" Target="slides/slide131.xml"/><Relationship Id="rId141" Type="http://schemas.openxmlformats.org/officeDocument/2006/relationships/slide" Target="slides/slide132.xml"/><Relationship Id="rId142" Type="http://schemas.openxmlformats.org/officeDocument/2006/relationships/slide" Target="slides/slide133.xml"/><Relationship Id="rId143" Type="http://schemas.openxmlformats.org/officeDocument/2006/relationships/slide" Target="slides/slide134.xml"/><Relationship Id="rId144" Type="http://schemas.openxmlformats.org/officeDocument/2006/relationships/slide" Target="slides/slide135.xml"/><Relationship Id="rId145" Type="http://schemas.openxmlformats.org/officeDocument/2006/relationships/slide" Target="slides/slide136.xml"/><Relationship Id="rId146" Type="http://schemas.openxmlformats.org/officeDocument/2006/relationships/slide" Target="slides/slide137.xml"/><Relationship Id="rId147" Type="http://schemas.openxmlformats.org/officeDocument/2006/relationships/slide" Target="slides/slide138.xml"/><Relationship Id="rId148" Type="http://schemas.openxmlformats.org/officeDocument/2006/relationships/slide" Target="slides/slide139.xml"/><Relationship Id="rId149" Type="http://schemas.openxmlformats.org/officeDocument/2006/relationships/slide" Target="slides/slide140.xml"/><Relationship Id="rId150" Type="http://schemas.openxmlformats.org/officeDocument/2006/relationships/slide" Target="slides/slide141.xml"/><Relationship Id="rId151" Type="http://schemas.openxmlformats.org/officeDocument/2006/relationships/slide" Target="slides/slide142.xml"/><Relationship Id="rId152" Type="http://schemas.openxmlformats.org/officeDocument/2006/relationships/slide" Target="slides/slide143.xml"/><Relationship Id="rId153" Type="http://schemas.openxmlformats.org/officeDocument/2006/relationships/slide" Target="slides/slide144.xml"/><Relationship Id="rId1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78D-9D10-4F9B-9BBD-BE1AA2D3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755-3249-43DE-9BE3-E9CB26D3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225-17AC-430C-B069-37AE557C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E68-0A76-497A-84A7-9E5522F5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63D4-9661-417D-A794-DF76D14E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FACD-D14F-4B44-A731-79813EC4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32E2-DFEA-47C7-A354-0CE3CE5D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DB31-F3CF-43AB-8BAC-0EEB85A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92DB-28C3-4B4F-AEDA-914DB1C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4A45-BC6E-4AF9-838E-8635E42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7160-631C-4C86-B1DD-2C61634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940-C9E9-46BD-BFC0-D2CC97B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EE9-0C0A-41CE-9883-4CA434B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D221-A5EA-49AB-B0AA-CD3BBC7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673A-E6B9-427D-A9B1-17FBED8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4372-46D0-4F75-812B-0C69D975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14EC-97C1-4D75-A61A-15907DFD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902B6-E3FC-4F15-A17B-0088625B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303EC-786C-4CC4-9D23-48D3487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3135D-1D98-45EC-AB13-D31FFCB6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3CD20-A0A9-4248-B192-FD45A55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EDF69-C4D3-4AD7-A2E2-D5AA2C51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C14-D8A0-4AE4-A421-D9D1AD3D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CB888-8B25-4584-BF7E-4F78F1DE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3AB7D-797B-4F29-9E6E-C2BC2C7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7B39E-032F-40F3-8C94-E2A9BF2B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BFBEC-40F8-485C-B60B-3E217D4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4D80F-E1DF-4188-8994-8D1BE07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4D5A0-1F63-4E5D-901E-9EFAE181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729CF-0D5D-40D4-AED7-6C728714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C3D42-056B-4B2A-9904-2B8DD427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F939A-0B95-4950-9BEB-B4B1A800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31099-4AC6-44CB-BC9A-02BBF4E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60E-E13B-4213-AE16-5F020221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FA798-7E27-421B-B05E-220251A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7BCCD-450F-43C3-95CF-9A4AB85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E8C02-F53A-4765-894F-748E04CE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AFAD1-21B4-4540-9EFB-4392EA21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C368A-23C3-4852-B7E6-A6E0B2F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F19EE-A841-4C7D-A522-4077BD8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1A56F-4A3D-4C90-A5E2-83329D8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E17BE-DD83-4208-B807-838E5BB2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89052-934C-4D8F-9F83-212F4E14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03CBD-6F7F-4FF9-A89B-0AB32F04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51B-33A1-419C-B753-C6EC627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3B7DC-1C6E-4086-80E8-798EA565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507F7-916D-4807-8AFF-F492399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C5491-F7CB-4A70-B78B-B5050D5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66A27-AE1F-4992-B943-F318893D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384C6-CC48-4539-9AB2-7AA14182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882DB-5BA1-44BA-84B0-A8786AE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C16BD-4A9A-4D51-B5BC-557844A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E4CAD-2BC7-4010-8551-CD133D7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1E6C1-928D-4513-A139-BFE34984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4711B-0684-4749-922A-C1370979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C0F-DDAB-4B5C-AE07-5517E2CB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58906-0992-4620-ACB3-71E9FDCA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A3CB9-010F-4DDA-9003-C0BEC2A1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7CEF-E46C-4AED-98CF-81BE77C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ADB7-A7B6-4919-89FB-D01C3DC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32F2-16DE-46D5-B918-0ECF7D2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E7AD-8123-4587-BE1E-C652BB33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7ECE-A72C-4DAD-A3B5-6D63B4AF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19D5-195F-412C-BFBC-7620467D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5B91-F6DD-48D9-8643-4321E37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217D-42D4-4077-944D-9809F9B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CCC-9A07-4C9C-AACA-C7028B3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A8AC7-E3DA-42F4-B55F-7E6273AD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177E-3879-44BF-BE25-5EA483C4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792F8-BB41-4714-BF42-BB893852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52F43-08D7-4761-A103-80D805C2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DCE13-8FF5-4A80-AD2F-205E7CFD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C7247-6A11-4466-9453-9ACAE4E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06364-3398-418A-8931-14531E5F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422C5-0358-46C4-886C-AA86ACA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94F60-E5FE-42B4-803B-53F1D7D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F34BD-248C-4CC4-B0E0-D5E2B97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600-C139-49E6-AD23-93E54F2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3B09B-A2BA-4BA8-94AB-81511C0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BF6D6-29E5-46DE-B3BA-3F17216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DF717-B597-40C7-AE30-A381E50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ACF6B-B014-4C95-B347-CD345298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7A7F8-D884-47C7-B4BB-1F290B8E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2AA78-7C5D-4883-8ECB-D3D44E03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F085-042C-4890-9F66-259811D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76C50-F9B7-4B14-9C95-4FC9B4C7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4246-D06D-410F-B745-77E2D327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C9EF-62F3-4EC7-B975-F2FF91C3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38F-DDDF-4BD1-9027-6E2A8FC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51AE4-0B39-47B8-9861-FE89D646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6249E-7144-4685-97FD-38FD7D8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B4039-85C1-4F13-87FA-27FDA27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BF58-5D4F-4B62-877F-99C4D5D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6EC67-C572-4A47-BB24-0BBE7882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8800-5ECD-4941-AF21-7601D6E6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C8A43-2019-4BFE-B265-4E179B5A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45E-B88C-4CFB-B12B-C57F2CB4CC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BF7-94C5-43F1-B737-29039863318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2829-F061-4C2C-B76C-C645B68D4BF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80C7-30B8-4CE8-8805-0DD42F0F4D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FCB-4F21-4AFD-A9BE-F1B6E6EEDF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AB9-521F-4265-86F2-A20820E2D4B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1B1C-F0F3-489B-AD7E-003E79BFB79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2202-1626-4A42-A777-957B341912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ust%20Like%20Josh%20GIbson.htm" TargetMode="External"/><Relationship Id="rId2" Type="http://schemas.openxmlformats.org/officeDocument/2006/relationships/hyperlink" Target="http://www.scottsboro.org/~flewis/SF%20Reading%20Street/spellmaster/Firefighter!/jigword2.html" TargetMode="External"/><Relationship Id="rId3" Type="http://schemas.openxmlformats.org/officeDocument/2006/relationships/hyperlink" Target="http://www.scottsboro.org/~flewis/SF%20Reading%20Street/spellmaster/Just%20Like%20Josh%20Gibson/matchword2.html" TargetMode="External"/><Relationship Id="rId4" Type="http://schemas.openxmlformats.org/officeDocument/2006/relationships/hyperlink" Target="http://www.scottsboro.org/~flewis/SF%20Reading%20Street/spellmaster/Just%20Like%20Josh%20Gibson/speedword2.html" TargetMode="External"/><Relationship Id="rId5" Type="http://schemas.openxmlformats.org/officeDocument/2006/relationships/hyperlink" Target="http://www.scottsboro.org/~flewis/SF%20Reading%20Street/spellmaster/Just%20Like%20Josh%20Gibson/wordsearch2.html" TargetMode="External"/><Relationship Id="rId6" Type="http://schemas.openxmlformats.org/officeDocument/2006/relationships/hyperlink" Target="http://www.scottsboro.org/~flewis/SF%20Reading%20Street/spellmaster/Just%20Like%20Josh%20Gibson/wordweb.html" TargetMode="External"/><Relationship Id="rId7" Type="http://schemas.openxmlformats.org/officeDocument/2006/relationships/hyperlink" Target="http://www.spellingcity.com/index.php?option=com_spellcity&amp;task=viewList&amp;listId=825689" TargetMode="External"/><Relationship Id="rId8" Type="http://schemas.openxmlformats.org/officeDocument/2006/relationships/hyperlink" Target="http://www.spellingcity.com/index.php?option=com_spellcity&amp;task=viewList&amp;listId=825686" TargetMode="External"/><Relationship Id="rId9" Type="http://schemas.openxmlformats.org/officeDocument/2006/relationships/hyperlink" Target="http://www.spellingcity.com/index.php?option=com_spellcity&amp;task=viewList&amp;listId=825686" TargetMode="External"/><Relationship Id="rId10" Type="http://schemas.openxmlformats.org/officeDocument/2006/relationships/hyperlink" Target="http://www.scottsboro.org/~flewis/SF%20Reading%20Street/spellmaster/Just%20Like%20Josh%20Gibson%20Spelling%20Words/speedword2.html" TargetMode="External"/><Relationship Id="rId11" Type="http://schemas.openxmlformats.org/officeDocument/2006/relationships/hyperlink" Target="http://www.scottsboro.org/~flewis/SF%20Reading%20Street/spellmaster/Just%20Like%20Josh%20Gibson%20Spelling%20Words/wordweb.html" TargetMode="External"/><Relationship Id="rId12" Type="http://schemas.openxmlformats.org/officeDocument/2006/relationships/hyperlink" Target="http://www.quia.com/pop/208349.html" TargetMode="External"/><Relationship Id="rId13" Type="http://schemas.openxmlformats.org/officeDocument/2006/relationships/hyperlink" Target="http://www.spellingcity.com/index.php?option=com_spellcity&amp;Itemid=122&amp;task=viewList&amp;listId=354283" TargetMode="External"/><Relationship Id="rId14" Type="http://schemas.openxmlformats.org/officeDocument/2006/relationships/hyperlink" Target="http://www.spellingcity.com/index.php?option=com_spellcity&amp;task=viewList&amp;listId=825691" TargetMode="External"/><Relationship Id="rId15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williams.prestosports.com/images/sball/Field72.jpg&amp;imgrefurl=http://williams.prestosports.com/sports/sball/index&amp;usg=__3Gb43MXobk6TEs8e2oob1Brkq1I=&amp;h=324&amp;w=432&amp;sz=148&amp;hl=EN&amp;start=2&amp;tbnid=YfmlvXG-77dbTM:&amp;tbnh=95&amp;tbnw=126&amp;prev=/images?q=field&amp;gbv=2&amp;hl=EN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atpm.com/12.02/readers/images/dominican-republic-field.jpg&amp;imgrefurl=http://www.atpm.com/12.02/readers/dominican-republic-field.shtml&amp;usg=__gUtBltHPQytciE6OLqXlOYu0fB0=&amp;h=1120&amp;w=1680&amp;sz=782&amp;hl=EN&amp;start=3&amp;tbnid=_22mkCkaIR5Q-M:&amp;tbnh=100&amp;tbnw=150&amp;prev=/images?q=field&amp;gbv=2&amp;hl=EN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graphics.fansonly.com/photos/schools/lewi/galleries/BrennanField/g-brennan_field11-lg.jpg&amp;imgrefurl=http://lewisflyers.cstv.com/facilities/lewi-facilities.html&amp;usg=__VauMmGqkXSr_UAVJySRUmelSJOE=&amp;h=300&amp;w=400&amp;sz=23&amp;hl=EN&amp;start=7&amp;tbnid=j02INKEDLMmLsM:&amp;tbnh=93&amp;tbnw=124&amp;prev=/images?q=field&amp;gbv=2&amp;hl=EN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chicago.cubs.mlb.com/chc/images/ballpark/581x300_wrigley_field.jpg&amp;imgrefurl=http://chicago.cubs.mlb.com/chc/ballpark/rooftops.jsp&amp;usg=__5mq4oGM1zO4oMGE7KaWm2_kONUE=&amp;h=300&amp;w=581&amp;sz=29&amp;hl=EN&amp;start=9&amp;tbnid=pgPAGlGj36_pFM:&amp;tbnh=69&amp;tbnw=134&amp;prev=/images?q=field&amp;gbv=2&amp;hl=EN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nl.gov/Media_Center/News/2007/photo/071207_field-hirez.jpg&amp;imgrefurl=http://www.anl.gov/Media_Center/News/2007/BIO071207.html&amp;usg=__E-brQVTb2oy5qAx9WWOFqPdBnyc=&amp;h=1089&amp;w=1612&amp;sz=1384&amp;hl=EN&amp;start=25&amp;tbnid=sSe8dkzngRHBpM:&amp;tbnh=101&amp;tbnw=150&amp;prev=/images?q=field&amp;gbv=2&amp;ndsp=20&amp;hl=EN&amp;sa=N&amp;start=20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livingbeing.com/2%2520HORSES%2520IN%2520FIELD-(c)%2520Paul%2520Smyres.JPG&amp;imgrefurl=http://livingbeing.com/tableofcontents.htm&amp;usg=__DZbPn9ZlxXmkc43I8ppiXNvlH48=&amp;h=960&amp;w=1440&amp;sz=243&amp;hl=EN&amp;start=44&amp;tbnid=laKwO9B6vAFI4M:&amp;tbnh=100&amp;tbnw=150&amp;prev=/images?q=field&amp;gbv=2&amp;ndsp=20&amp;hl=EN&amp;sa=N&amp;start=40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69.90.174.253/photos/display_pic_with_logo/4262/4262,1147049604,1.jpg&amp;imgrefurl=http://www.shutterstock.com/pic-1288067-baseball-home-plate-red-clay.html&amp;usg=__mpen-t5XBCAAXdHu9etLvjmPJJQ=&amp;h=321&amp;w=450&amp;sz=80&amp;hl=EN&amp;start=6&amp;tbnid=N2mJxGYwebugJM:&amp;tbnh=91&amp;tbnw=127&amp;prev=/images?q=baseball+homes+plate&amp;gbv=2&amp;hl=E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m/imgres?imgurl=http://www.acclaimimages.com/_gallery/_images_n300/0037-0803-2914-4135_baseball_and_home_plate.jpg&amp;imgrefurl=http://www.acclaimimages.com/_gallery/_pages/0037-0803-2914-4135.html&amp;usg=__Ld3xVs9Smg9xbUCFhdadKyNtIpA=&amp;h=247&amp;w=300&amp;sz=31&amp;hl=EN&amp;start=12&amp;tbnid=0pM9wp2QN3BEsM:&amp;tbnh=96&amp;tbnw=116&amp;prev=/images?q=baseball+homes+plate&amp;gbv=2&amp;hl=EN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com/imgres?imgurl=http://wwwdelivery.superstock.com/WI/223/1626/PreviewComp/SuperStock_1626-2134.jpg&amp;imgrefurl=http://www.superstock.com/stock-photos-images/1626-2134&amp;usg=__IMLfVW8DivEFVKgDpEMDAuaT9LY=&amp;h=346&amp;w=350&amp;sz=73&amp;hl=EN&amp;start=20&amp;tbnid=5T7kpcqQDATGDM:&amp;tbnh=119&amp;tbnw=120&amp;prev=/images?q=baseball+homes+plate&amp;gbv=2&amp;hl=EN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images.google.com/imgres?imgurl=http://www.miamibeach411.com/ee/images/uploads/home-plate-seats.jpg&amp;imgrefurl=http://www.miamibeach411.com/news/index.php?/news/comments/marlins-home-plate/&amp;usg=__Tmi2uc9M8bQNM2CRnw1jMjVjeIs=&amp;h=322&amp;w=385&amp;sz=61&amp;hl=EN&amp;start=31&amp;tbnid=BmfJPUdrGBmRKM:&amp;tbnh=103&amp;tbnw=123&amp;prev=/images?q=baseball+homes+plate&amp;gbv=2&amp;ndsp=20&amp;hl=EN&amp;sa=N&amp;start=20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images.google.com/imgres?imgurl=http://www.esubulletin.com/media/images/WEB_Baseball_kellen_.jpg&amp;imgrefurl=http://www.esubulletin.com/articles/sports/2008/04/10/baseball-sweeps-fhsu-extends-streak-25&amp;usg=__qOHEQ2Evi19CL0pit3wErp5AXTU=&amp;h=420&amp;w=800&amp;sz=84&amp;hl=EN&amp;start=101&amp;tbnid=mLkv58psjGnwWM:&amp;tbnh=75&amp;tbnw=143&amp;prev=/images?q=baseball+homes+plate&amp;gbv=2&amp;ndsp=20&amp;hl=EN&amp;sa=N&amp;start=100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images.google.com/imgres?imgurl=http://www.digitalballparks.com/Southern/Baseball_Grounds_-_From_Behind_the_NetV2T.jpg&amp;imgrefurl=http://www.baseball-fever.com/showthread.php?t=69741&amp;usg=__cxa5e7f9x1H23oziCQWiuGNjtyY=&amp;h=575&amp;w=784&amp;sz=58&amp;hl=EN&amp;start=129&amp;tbnid=pfUu3ZOiDNgVUM:&amp;tbnh=105&amp;tbnw=143&amp;prev=/images?q=baseball+homes+plate&amp;gbv=2&amp;ndsp=20&amp;hl=EN&amp;sa=N&amp;start=120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www.topendsports.com/sport/baseball/images/baseball-diamond.gif&amp;imgrefurl=http://www.topendsports.com/sport/baseball/equipment.htm&amp;usg=__BFir4zPNVXf6JTJnV3-Ry5MyVfI=&amp;h=251&amp;w=252&amp;sz=5&amp;hl=EN&amp;start=2&amp;tbnid=KIJ5A4g_1DIMjM:&amp;tbnh=111&amp;tbnw=111&amp;prev=/images?q=baseball+bases&amp;gbv=2&amp;hl=EN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www.mightyeighth.org/cart2/images/index.jpg&amp;imgrefurl=http://www.mightyeighth.org/cart2/index.php?main_page=index&amp;cPath=67_79&amp;usg=__JeDhte6a2Q7fRUF85I3xq2WZEHI=&amp;h=400&amp;w=278&amp;sz=25&amp;hl=EN&amp;start=3&amp;tbnid=lkcHI3VvRjKjOM:&amp;tbnh=124&amp;tbnw=86&amp;prev=/images?q=forties&amp;gbv=2&amp;hl=EN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m/imgres?imgurl=http://www.doverbooks.co.uk/images/0486260000/0486269183.jpg&amp;imgrefurl=http://www.doverbooks.co.uk/pp/Costume/Everyday__Fashions_of_the_Forties.html&amp;usg=__Su0Oa9F7AXfPO3Hc6-2fdG7aa_Y=&amp;h=350&amp;w=263&amp;sz=35&amp;hl=EN&amp;start=17&amp;tbnid=QYPSyB1xlx8YJM:&amp;tbnh=120&amp;tbnw=90&amp;prev=/images?q=forties&amp;gbv=2&amp;hl=EN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images.google.com/imgres?imgurl=http://www.caranddriving.com/features2/300/motoring%2520in%2520the%2520forties.jpg&amp;imgrefurl=http://www.caranddriving.com/features2/&amp;usg=__V8qK18DUC2nJbdFHcoBsg3VA0ZM=&amp;h=1067&amp;w=1600&amp;sz=192&amp;hl=EN&amp;start=24&amp;tbnid=JcoOWt051gohoM:&amp;tbnh=100&amp;tbnw=150&amp;prev=/images?q=forties&amp;gbv=2&amp;ndsp=20&amp;hl=EN&amp;sa=N&amp;start=20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images.google.com/imgres?imgurl=http://www.tibpriors.org/images/00/forties_guys.jpg&amp;imgrefurl=http://www.tibpriors.org/priors_yearbook.htm&amp;usg=__FUGkcsiwXc0eXsDRllXHNG_WA3A=&amp;h=399&amp;w=517&amp;sz=58&amp;hl=EN&amp;start=65&amp;tbnid=sWzptf2jn4Q7_M:&amp;tbnh=101&amp;tbnw=131&amp;prev=/images?q=forties&amp;gbv=2&amp;ndsp=20&amp;hl=EN&amp;sa=N&amp;start=60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images.google.com/imgres?imgurl=http://justabouthair.com/rockabilly-hairstyles-/forties-rockabilly-hairstyles.jpg&amp;imgrefurl=http://justabouthair.com/rockabilly-hairstyles/&amp;usg=__9iniRdo-4O2tgKs3RfPbtlJ7JPY=&amp;h=442&amp;w=347&amp;sz=32&amp;hl=EN&amp;start=93&amp;tbnid=QidiPI67TgThpM:&amp;tbnh=127&amp;tbnw=100&amp;prev=/images?q=forties&amp;gbv=2&amp;ndsp=20&amp;hl=EN&amp;sa=N&amp;start=80" TargetMode="External"/><Relationship Id="rId11" Type="http://schemas.openxmlformats.org/officeDocument/2006/relationships/image" Target="../media/image22.jpeg"/><Relationship Id="rId12" Type="http://schemas.openxmlformats.org/officeDocument/2006/relationships/hyperlink" Target="http://images.google.com/imgres?imgurl=http://www.gallimauphry.com/Decor/paint.jpg&amp;imgrefurl=http://www.gallimauphry.com/Decor/40s.html&amp;usg=__zRLtcc9m3acrba5uw8V1E0DHBAo=&amp;h=480&amp;w=558&amp;sz=42&amp;hl=EN&amp;start=117&amp;tbnid=3fm308DmMguZxM:&amp;tbnh=114&amp;tbnw=133&amp;prev=/images?q=forties&amp;gbv=2&amp;ndsp=20&amp;hl=EN&amp;sa=N&amp;start=100" TargetMode="External"/><Relationship Id="rId13" Type="http://schemas.openxmlformats.org/officeDocument/2006/relationships/image" Target="../media/image23.jpeg"/><Relationship Id="rId14" Type="http://schemas.openxmlformats.org/officeDocument/2006/relationships/hyperlink" Target="http://images.google.com/imgres?imgurl=http://bp0.blogger.com/_nC3pdAOSBog/SEv9GwhgQ9I/AAAAAAAABGg/k_gLzOsHm0c/s400/forties+photograph.jpg&amp;imgrefurl=http://www.thestylepa.com/2008/06/trends-forties-tresses.html&amp;usg=__SLk3vkBawt9Mn4QA0mokzrfAdBg=&amp;h=400&amp;w=320&amp;sz=17&amp;hl=EN&amp;start=18&amp;tbnid=05iiHDKvdmU0TM:&amp;tbnh=124&amp;tbnw=99&amp;prev=/images?q=forties&amp;gbv=2&amp;ndsp=20&amp;hl=EN&amp;sa=N" TargetMode="External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nasignews.files.wordpress.com/2007/09/louisville-slugger-museum.jpg&amp;imgrefurl=http://nasignews.wordpress.com/2007/09/09/223-200709-22nd-conference-2007-conference-photos/&amp;usg=__n7hiodFDmug4lc7LvGBJfKT09s4=&amp;h=500&amp;w=375&amp;sz=117&amp;hl=EN&amp;start=2&amp;tbnid=Ia6hFYIm3pPdDM:&amp;tbnh=130&amp;tbnw=98&amp;prev=/images?q=Louisville+slugger&amp;gbv=2&amp;hl=EN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5.xml"/><Relationship Id="rId3" Type="http://schemas.openxmlformats.org/officeDocument/2006/relationships/slide" Target="slide83.xml"/><Relationship Id="rId4" Type="http://schemas.openxmlformats.org/officeDocument/2006/relationships/slide" Target="slide110.xml"/><Relationship Id="rId5" Type="http://schemas.openxmlformats.org/officeDocument/2006/relationships/slide" Target="slide12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13372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32" descr="Just Like Josh Gibs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6880" y="3048120"/>
            <a:ext cx="26654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ago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She liked runni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ran to hom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plate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nd were safe, how would you feel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a wind blew your papers and they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saile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way, what would you do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anted to play baseball, what could you use to mak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base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ent to spend the day in a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fiel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, what might you do there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heard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cheer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coming from the park, what might you find when you went to see what was happening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 ball, what might your dog do next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omoph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 words sound the same but are spelled differently and have different meaning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sse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Nick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ba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in one side and out the other side of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dna r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doo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ruw the ball to left feil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threw the ball to left field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wd cheerd for him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ed for him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capital letters helps readers identify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proper noun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ing with capital letters lets readers know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month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holi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it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miss brady visited our school on the first friday in m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Miss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Brad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visited our school on the first </a:t>
            </a: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Frid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M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d with Accuracy and Appropriate 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morrow we will read about how baseball beg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baseball g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played or attended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 long ago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unn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ward first base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njo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opportunity to compete and participate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opportunit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articipa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rds in 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ak to Your Aud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97180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guess you saw the pretty whal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id you see them laugh in math and science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 watch those dolphins and wish they were pe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at photo of a bunch of shrimp won the contes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garden patch near the village has enough flow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y shoe is rough, and my foot starts to itch when I wear i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shou’ldve wun the ga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should’ve won the ga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wouldv’e if w’ed score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would’ve if we’d scored!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&amp;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ing 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names of days, months, and holidays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proper nouns and titles of people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ich of these words need a capital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680" y="15998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pril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Apri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peaking and Liste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1905120"/>
          <a:ext cx="7772400" cy="4246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hink about the audi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Decide whether to use formal or informal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Sit  quie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Face the speak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Listen to what the speaker say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Watch for nonverbal cues, such as hand gestures and head moveme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ake Connections:  Text to Worl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have heard about how baseball began and why sports are important in our country.  Tomorrow we will hear about a base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becom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etter athlet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athlete? Athletes give an extra effort in every challenge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thl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thletes give an extra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ffor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very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halleng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s Resour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200400" y="18288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’t you know if they’re here yet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don’t see it—I should’ve found it by 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’t ask them if they’d been ther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would’ve called you but you’d just left the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666880" y="1600200"/>
          <a:ext cx="3810240" cy="51879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___  over the green, grassy _____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____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____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____ the ball, I crossed home _____. “Safe!”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threw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ball, I crossed hom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plat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 “Safe!”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228240" y="-609480"/>
            <a:ext cx="8915400" cy="76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we chear as Joe runs the baise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We cheer as Joe runs the bases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center feald is not home playt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Center field is not home plate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search/Study Skills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eople as Resour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re excellent resources when you are doing research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have knowledge and expertise in many area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f you want information about something, you could ask an expert in that area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athle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44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 - lete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somebody who uses skills and abilities to compete in spor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basketball players were skilled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fast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mpeted in the rac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dc3"/>
                </a:solidFill>
                <a:latin typeface="Tw Cen MT"/>
              </a:rPr>
              <a:t>WRAP UP YOUR WEEK!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Let’s Talk About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8047"/>
                </a:solidFill>
                <a:latin typeface="Tw Cen MT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n athlet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meets a challenge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elated Links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merican Girls Professional Baseball Leagu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 Foundati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Game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the Contraction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PTPlus Videos  (password required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onder: Baseball Bats, Bar Codes, and Quarries (24:46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ball Bat Factor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01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We are now ready to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take our story tests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Story tes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Classroom webpage,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tudent page,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Taking Tes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AR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Other Reading Quizz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Quiz # 904628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llen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 - leng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a test of someone’s abilities.  You can also challenge someone by daring him or her to do someth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Pitching a perfect game was her bigg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other team will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us to a rematch if we wi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effor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176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 - for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physical and mental energy you use to do something or to achieve a goa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men used a lot of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to move the refrigerator onto the truck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he put forth her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’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do you know about reading this word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’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s a contraction of the word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di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o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 we’ll learn about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made from other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’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is word is a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 short way of saying and writing two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letters that are left ou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e two words that make thi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we’re – we a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’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 read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first read the word before the apostrophe and then blend it with what comes after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0440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Small</a:t>
            </a: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7b615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7521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’d ( ’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’d ( ’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wo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u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791320" y="17521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uld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Tw Cen MT"/>
                <a:ea typeface="Arial"/>
              </a:rPr>
              <a:t>Vocabulary &amp; Amazing Word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7"/>
              </a:rPr>
              <a:t>Spelling City: Amaz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8"/>
              </a:rPr>
              <a:t>Spelling City: Vocabulary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9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0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1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2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3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4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4792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’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ould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d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28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’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r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’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call </a:t>
            </a:r>
            <a:r>
              <a:rPr b="0" i="1" lang="en-US" sz="3300" spc="-1" strike="noStrike" u="sng">
                <a:solidFill>
                  <a:srgbClr val="000000"/>
                </a:solidFill>
                <a:uFillTx/>
                <a:latin typeface="Tw Cen MT"/>
              </a:rPr>
              <a:t>Horace and Morris but mostly Dolor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’s compare the boys’ club and the girls’ club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would the story have been different if the boys had not decided to make their own club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2824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mp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s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what they read with what they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times there are helpful clue words that help us compare and contrast, such a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lik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howev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bu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 Sometimes there aren’t any clue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picture, o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visualiz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what is happening in a story in their minds.  Then we compare what we are reading with what we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723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ges 296-297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8" name="Picture 5" descr="Student Pages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80520" y="-1524240"/>
            <a:ext cx="8458200" cy="883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want to be an atlete</a:t>
            </a:r>
            <a:r>
              <a:rPr b="0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want to be an athlet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y’re watching ken play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y’re watching Ken play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w Cen MT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Sentenc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should always begin with a capital lett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week,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month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year, an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holi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The first day of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Januar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New Year’s Da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itl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for people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very year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Mr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 Lewis has a bi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12408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The last monday in may is memorial day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dd8047"/>
                </a:solidFill>
                <a:latin typeface="Tw Cen MT"/>
              </a:rPr>
              <a:t>The last Monday in May is Memorial Day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Every year coach Scalia and mrs. Kurtz march in the parade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dd8047"/>
                </a:solidFill>
                <a:latin typeface="Tw Cen MT"/>
              </a:rPr>
              <a:t>Every year Coach Scalia and Mrs. Kurtz march in the parade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is year the fourth of july is on a frida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This year the Fourth of July is on a Frida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 always go to the barbecue at mr. Garcia’s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We always go to the barbecue at Mr. Garcia’s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’re, ’ve, ’d, don’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won’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morrow we will read about a girl that liked to play baseb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371600" y="2057400"/>
          <a:ext cx="6095880" cy="3749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paragraph about a time you played or watched baseball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compete with the boys. She played baseball for recreation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he boys. She played baseball for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ecre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’re, ’ve, ’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Vocabulary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Multiple-Mean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ext Clu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Use 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ain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17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 - t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means delicate and pret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dress had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lace colla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You could eat 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okies in one bit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743200" y="1600200"/>
          <a:ext cx="3809880" cy="51879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isgu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 – gui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can be clothes or make-up someone wears to change the way he or she looks so he or she won’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change your appearance so you won’t be recognized, you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your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spy wore 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so she wouldn’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e wore a wig and a beard to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him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mp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 – pi- 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winner of a game or competitio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had ten wins and no losse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team practiced hard because we wanted to beat last year’s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’v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how to read contractio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two words form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’v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en you come to a contraction, read the word before the apostrophe and then blend it with what follows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5998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’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8002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’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’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5812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’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95480" y="1828800"/>
          <a:ext cx="3581640" cy="46512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’d ask him to come, but I don’t think he wi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’re a good friend, and I’ve always said so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’ve seen that show before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on’t you walk home with me today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iece of land used for some special purp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calls out or yells loudly to show that you like something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sent something through the air by force of your arm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moved smoothly like a ship with sail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(next slid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6" descr="Field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47800" cy="19969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dominican-republic-fiel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21337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0" descr="g-brennan_field11-l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2590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581x300_wrigley_fiel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767120"/>
            <a:ext cx="2819520" cy="1452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071207_field-hirez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95680"/>
            <a:ext cx="2133720" cy="1436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6" descr="2%2520HORSES%2520IN%2520FIELD-(c)%2520Paul%2520Smyr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867280" y="4495680"/>
            <a:ext cx="2571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pl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7" descr="4262,1147049604,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57520" cy="1903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0037-0803-2914-4135_baseball_and_home_pl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209680"/>
            <a:ext cx="2514600" cy="2081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SuperStock_1626-21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2133720"/>
            <a:ext cx="1905120" cy="1888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3" descr="home-plate-seat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4197240"/>
            <a:ext cx="2438280" cy="2041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5" descr="WEB_Baseball_kellen_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4724280"/>
            <a:ext cx="2514600" cy="1476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7" descr="Baseball_Grounds_-_From_Behind_the_NetV2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4454640"/>
            <a:ext cx="23529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ba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7" descr="baseball-diamo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9051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8"/>
          <p:cNvSpPr/>
          <p:nvPr/>
        </p:nvSpPr>
        <p:spPr>
          <a:xfrm>
            <a:off x="5717160" y="4267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Firs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3432240" y="29718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Secon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1373400" y="4191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Thir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583440" y="55627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Hom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or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7" descr="inde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33720"/>
            <a:ext cx="1744560" cy="2514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048626918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8480" y="21337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motoring%2520in%2520the%2520forti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473724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forties_guy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4648320"/>
            <a:ext cx="2009880" cy="1549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5" descr="forties-rockabilly-hairstyl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4724280"/>
            <a:ext cx="1192320" cy="1514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pain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048120" y="2133720"/>
            <a:ext cx="2895480" cy="2481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forties%2Bphotograph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00600" y="4724280"/>
            <a:ext cx="1185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Louisville slugg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7" name="Picture 7" descr="louisville-slugger-muse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3886200"/>
            <a:ext cx="1738080" cy="2305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207353-480-321"/>
          <p:cNvPicPr/>
          <p:nvPr/>
        </p:nvPicPr>
        <p:blipFill>
          <a:blip r:embed="rId4"/>
          <a:stretch/>
        </p:blipFill>
        <p:spPr>
          <a:xfrm>
            <a:off x="3657600" y="21337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0-Blog_-_Billets_being_processed_540x361"/>
          <p:cNvPicPr/>
          <p:nvPr/>
        </p:nvPicPr>
        <p:blipFill>
          <a:blip r:embed="rId5"/>
          <a:stretch/>
        </p:blipFill>
        <p:spPr>
          <a:xfrm>
            <a:off x="685800" y="2133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610x"/>
          <p:cNvPicPr/>
          <p:nvPr/>
        </p:nvPicPr>
        <p:blipFill>
          <a:blip r:embed="rId6"/>
          <a:stretch/>
        </p:blipFill>
        <p:spPr>
          <a:xfrm>
            <a:off x="3124080" y="4343400"/>
            <a:ext cx="2362320" cy="1911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7" descr="img"/>
          <p:cNvPicPr/>
          <p:nvPr/>
        </p:nvPicPr>
        <p:blipFill>
          <a:blip r:embed="rId7"/>
          <a:stretch/>
        </p:blipFill>
        <p:spPr>
          <a:xfrm>
            <a:off x="7091280" y="2133720"/>
            <a:ext cx="1300320" cy="2209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1187007554_134540096f"/>
          <p:cNvPicPr/>
          <p:nvPr/>
        </p:nvPicPr>
        <p:blipFill>
          <a:blip r:embed="rId8"/>
          <a:stretch/>
        </p:blipFill>
        <p:spPr>
          <a:xfrm>
            <a:off x="6095880" y="4452840"/>
            <a:ext cx="2305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plat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hard rubber slab that a baseball player stands beside to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places that are stations or goals in certain games, such as basebal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oa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 fly upwar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fort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he years between 1940 and 1949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Louisville slugg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opular kind of baseball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gh-Frequency Wo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523520" y="21337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ou’r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rew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1051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aile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u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lat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ar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Student Pages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ext Cl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metimes we can get the meaning from word part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may understand the base word and suffix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beautiful, full of beauty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 or the two shorter words in a compound word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wildcat, a cat that’s wild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in a dictionary or glossar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for context clues in the words and sentences around the unknown word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oday we will learn more about context clu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09120" y="-990720"/>
            <a:ext cx="8534520" cy="74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ud chears for 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s for 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raned Around the basis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ran around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bases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Tw Cen MT"/>
              </a:rPr>
              <a:t>Big Question: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13040" y="3581280"/>
            <a:ext cx="6330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Mon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Tu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 action="ppaction://hlinksldjump"/>
              </a:rPr>
              <a:t>Wedn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4" action="ppaction://hlinksldjump"/>
              </a:rPr>
              <a:t>Thur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5" action="ppaction://hlinksldjump"/>
              </a:rPr>
              <a:t>Fri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pecial names for people, places, animals, and things are calle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proper</a:t>
            </a:r>
            <a:r>
              <a:rPr b="1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nou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re proper nou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the 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Mexic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Italy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United Stat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sson 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 they will hear about some princesses and their secret pastim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256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time you got a chance to play something you'd always wanted to pl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6152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time, there were twelve princesses. These girls liked to play basketball every night.  They wore special high-top shoes.  Today we will read about  a special ball they had. What do you think the ball will be lik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im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here were twelve princesses. These girls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play basketball every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nigh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They wore special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op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hoes.  Today we will read about  a special ball they had. What do you think the ball will b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127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wels </a:t>
            </a: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aw, au, augh, a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mophon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enten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profession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 – fes –sion - al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describes a type of job in which people are paid for their skill and train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My uncle is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basket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ant to be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singer when I grow up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shortsto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617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 - stop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s the infield position on a baseball team between second and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ould prefer playing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rather than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baseball team has the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n the leagu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wfu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at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a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an stand for the sound /o/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ut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ugh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alk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ago.  She liked running toward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33:41Z</dcterms:modified>
  <cp:revision>43</cp:revision>
  <dc:subject/>
  <dc:title>Slide 1</dc:title>
</cp:coreProperties>
</file>